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B869-AAEB-4334-B702-EF101ABB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25520"/>
            <a:ext cx="822960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33360"/>
            <a:ext cx="822960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1B78-EE6D-4573-9AB3-6A6A1C84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25520"/>
            <a:ext cx="401580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25520"/>
            <a:ext cx="401580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33360"/>
            <a:ext cx="401580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33360"/>
            <a:ext cx="401580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E60-F7A8-4FB8-B8E4-55F92C2E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25520"/>
            <a:ext cx="264960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25520"/>
            <a:ext cx="264960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25520"/>
            <a:ext cx="264960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33360"/>
            <a:ext cx="264960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33360"/>
            <a:ext cx="264960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33360"/>
            <a:ext cx="264960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6D6-92C1-49E1-8CD7-449FE80A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2552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AFD-7BF3-4090-8DC2-C56273DF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2552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81E-FD8F-43D3-A1FC-F5E22D13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25520"/>
            <a:ext cx="40158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25520"/>
            <a:ext cx="40158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F7EA-698B-43BD-87A4-330CD1C2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C62C-5F3C-4BC3-9B35-682502DB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066-A0F4-4D0A-83F9-2002BE22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25520"/>
            <a:ext cx="401580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25520"/>
            <a:ext cx="40158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33360"/>
            <a:ext cx="401580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BBA5-34B6-4B74-8363-6DE9C890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25520"/>
            <a:ext cx="40158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25520"/>
            <a:ext cx="401580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33360"/>
            <a:ext cx="401580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C1A6-3BEF-475B-A7F9-4052507E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25520"/>
            <a:ext cx="401580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25520"/>
            <a:ext cx="401580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33360"/>
            <a:ext cx="822960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37B-D895-41DF-AB97-1ACCA9F3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2552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67480" indent="-2674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67480" indent="-267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67480" indent="-2674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67480" indent="-2674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67480" indent="-2674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67480" indent="-2674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C03B6-386F-407B-9DB7-74E68006D3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32552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7:25:16Z</dcterms:created>
  <dc:creator>Steve Johnson</dc:creator>
  <dc:description/>
  <dc:language>en-US</dc:language>
  <cp:lastModifiedBy>steve.johnson@aes.org</cp:lastModifiedBy>
  <dcterms:modified xsi:type="dcterms:W3CDTF">2017-07-11T19:50:54Z</dcterms:modified>
  <cp:revision>22</cp:revision>
  <dc:subject/>
  <dc:title>PowerPoint Presentation</dc:title>
</cp:coreProperties>
</file>